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8728B-E6B0-4CD0-B1CD-834C4AF88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25140-9D48-4E96-B1B5-BB3772DE6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1DEB0-5611-4ED1-8B53-04929E74F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378BE-0E48-451C-A0F8-82C5652B1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3614C-EF4D-479F-AB46-A7D26EFDD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76D30-711D-4884-8479-809F1FC64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D842A-E98D-4ECB-8FB0-B057B59BE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5C3F4-9610-4F23-9FD0-1249C2252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E9C34-0773-4F81-A6A2-D930F6480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1CB2F-EF79-4EC8-B1E5-6DB6E79DB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2ACD9-39AC-4361-8805-851C0DAB8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B0683-E769-460E-8137-7A128CFFA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B291-FBE3-4A4C-B74C-96BD3F554E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066680" y="4419720"/>
            <a:ext cx="6172200" cy="500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daptat după Manual de Psihologie, clasa a X-a, coordonator Mielu </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 presetSubtype="2">
                                  <p:stCondLst>
                                    <p:cond delay="0"/>
                                  </p:stCondLst>
                                  <p:childTnLst>
                                    <p:animClr clrSpc="rgb">
                                      <p:cBhvr>
                                        <p:cTn id="6" dur="2000" fill="hold"/>
                                        <p:tgtEl>
                                          <p:spTgt spid="46"/>
                                        </p:tgtEl>
                                        <p:attrNameLst>
                                          <p:attrName>fillcolor</p:attrName>
                                        </p:attrNameLst>
                                      </p:cBhvr>
                                      <p:to>
                                        <a:srgbClr val="ffff09"/>
                                      </p:to>
                                    </p:animClr>
                                    <p:set>
                                      <p:cBhvr>
                                        <p:cTn id="7" dur="2000" fill="hold"/>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0-08-28T10:17:48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